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C03-1A72-4E47-814D-C65A5905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971-50A1-4707-8F39-E6C1162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31D-CBFF-41BE-A49D-29809559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0D2-BACB-4067-82DE-FD92F747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0D8-C540-406E-B810-F7B6A6E5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8F6-AEFA-4784-9BC2-BB1658EC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8CF-8C4A-457C-9873-6A9DE0B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817-E085-4EAD-BD4A-5189E67D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E86-D324-4F89-9642-E34F7C31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186-3DDD-4317-9C6B-353C303B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C29-A126-4BCE-82C4-549AEBB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9EE-48EC-4AC4-91C8-F0B529BB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0BD-9F39-4E4E-B3BE-DA1B6102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Cj03519040000[1]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3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8" name="Oval 70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82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0" name="Picture 77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Text Box 8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84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3" name="Oval 71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81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0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7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7" name="Oval 74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8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86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80880" y="2514600"/>
            <a:ext cx="4343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66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73" name="Picture 44" descr=""/>
            <p:cNvPicPr/>
            <p:nvPr/>
          </p:nvPicPr>
          <p:blipFill>
            <a:blip r:embed="rId1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"/>
          <p:cNvSpPr/>
          <p:nvPr/>
        </p:nvSpPr>
        <p:spPr>
          <a:xfrm>
            <a:off x="5410080" y="304812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Trivi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 standard for mass is: 1 kilogram is equal to the mass of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62520" y="990720"/>
            <a:ext cx="5181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3" descr=""/>
          <p:cNvPicPr/>
          <p:nvPr/>
        </p:nvPicPr>
        <p:blipFill>
          <a:blip r:embed="rId1"/>
          <a:stretch/>
        </p:blipFill>
        <p:spPr>
          <a:xfrm>
            <a:off x="11160" y="1219320"/>
            <a:ext cx="3200400" cy="134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3181320" cy="2632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3733920" y="3581280"/>
            <a:ext cx="51814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balanced the scale, you add up the amounts on each beam to find the total ma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be the mass of the object measured in the pi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 + ______ + _______ = ________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9"/>
          <p:cNvSpPr/>
          <p:nvPr/>
        </p:nvSpPr>
        <p:spPr>
          <a:xfrm flipH="1" flipV="1">
            <a:off x="2590920" y="19051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28600" y="1066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lace a small canister on the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838080" y="1523880"/>
            <a:ext cx="3812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90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93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96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98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St. Aloysius</cp:lastModifiedBy>
  <dcterms:modified xsi:type="dcterms:W3CDTF">2012-09-24T18:17:09Z</dcterms:modified>
  <cp:revision>24</cp:revision>
  <dc:subject/>
  <dc:title>Slide 1</dc:title>
</cp:coreProperties>
</file>